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656-EDB9-48AC-8FA9-868DA22D8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D735-7107-455E-84F9-4F6A46515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07A-91A3-41F2-AC48-BAB705A88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3EA9-1FAE-44F1-B828-65EFEB511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AC21-CB35-4AB4-B0DB-E3541407A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BD9-FD56-459B-BD7A-CFCABD48F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F47D-2ADA-4696-BBB2-1B732B97A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C1F-E2D4-47C9-B62A-FC6F25BCE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3600" y="3228840"/>
            <a:ext cx="79408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7C7-425F-470B-ABD6-1848413E5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72E-22A9-4342-A009-7759B9EE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91C-5DC6-4440-A4B9-39EB784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28A-E100-4552-B1C4-3AAE3B12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207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609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5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207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609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ACF-D1ED-496F-84A9-D5D7EA01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E166-D356-46B8-9A90-48286C46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29ED-AAE6-4498-84AC-7F6E1719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E39F-87F7-4895-BCC9-0041B56E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0DB4-DB77-4227-9D6E-60784278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F276-EC4B-41AA-8671-8DB1744F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80520" y="456840"/>
            <a:ext cx="9029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70F6-62C4-4EA9-A7FD-291F030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804D-F7D4-4658-BFE1-9CB9C9EF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D2B-0DF4-4EF4-B89A-CBE9024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62EF-E24E-45C2-BA1B-367B453F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B948-5C1A-4D8F-A9F9-CD2B5673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D88A-3005-4CFD-A7E6-58D60AD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CEF4-93A7-496F-B8FD-C7B7E9C3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207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60920" y="1219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805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207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60920" y="4045320"/>
            <a:ext cx="28951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57B3-7F5C-4002-B12A-45CCDB19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B2E-7460-4C9D-8896-4D4B642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633-627D-4753-9E89-4D0FBA6E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89F-3A00-4577-A52A-1B0BD17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520" y="456840"/>
            <a:ext cx="9029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33D-6545-4946-A028-AF6EF273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BDF-D3E9-414D-97E1-B373117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87800" y="4045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BDF-D8CA-4611-AA82-9316092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7800" y="1219320"/>
            <a:ext cx="4387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4045320"/>
            <a:ext cx="8991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784-04B5-4528-84F0-DF19165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76276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BD73DA47-1574-4C1A-B1CF-79744C7B0AB3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B786-7817-4383-AC58-D476A1741D4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Universal Asynchronous Receiver/Transmitter (UART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19120" y="4266720"/>
            <a:ext cx="6521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991720" cy="5410080"/>
          </a:xfrm>
          <a:prstGeom prst="rect">
            <a:avLst/>
          </a:prstGeom>
          <a:ln w="0">
            <a:noFill/>
          </a:ln>
        </p:spPr>
      </p:pic>
      <p:sp>
        <p:nvSpPr>
          <p:cNvPr id="283" name="Espace réservé du numéro de diapositive 3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E1DD8D05-9DE7-4A17-90B8-47D51FA7B683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tre 1"/>
          <p:cNvSpPr/>
          <p:nvPr/>
        </p:nvSpPr>
        <p:spPr>
          <a:xfrm>
            <a:off x="380880" y="285840"/>
            <a:ext cx="902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AR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28600" y="1008000"/>
            <a:ext cx="8686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 hardware flow control (CTS and RT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dicated transmission and reception flags (TxE and RxNE) with interrupt capa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 for DM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ceive DMA request and Transmit DMA requ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 interrupt sources to ease software implem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 Master/Slave compatib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Mode: Master mod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rDA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IR Encod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martcard Capa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gle wire Half Duplex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ulti-Processor communic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SART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enter Mute mo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ute mode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able receive interrupts until  next header detec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ake up from mute mode (by idle line detection or address mark dete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 One Sample Bit method: allows to disable noise detection (for noise-free applications) in order to increase the receiver’s tolerance to clock deviat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A694A778-5F84-4969-A7AB-8BD751B988A8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525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ART (Universal Asynchronous Receiver/Transm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UARTS are full duplex – they have separate pins and electronic hardware for the transmitter and receiver that allows serial output and serial input to take place simul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around shift registers and a clock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ART clock determines bau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ART frames the data bit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art bit to provide synchronisation to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(usually one) stop bits to signal end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UARTs can also optionally generate parity bits on transmission and parity checking on reception to provide simple error de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ARTs often have receive and transmit buffers(FIFO's) as well as the serial 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BE0A33FF-6310-4CB7-ADBB-C5393AC04E37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ART - Transm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mitter (Tx) - converts data from parallel to seria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rts start and stop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s and inserts parity bit if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 bit rate is determined by the UART c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0"/>
          <p:cNvGrpSpPr/>
          <p:nvPr/>
        </p:nvGrpSpPr>
        <p:grpSpPr>
          <a:xfrm>
            <a:off x="457200" y="3657600"/>
            <a:ext cx="7848720" cy="2837520"/>
            <a:chOff x="457200" y="3657600"/>
            <a:chExt cx="7848720" cy="2837520"/>
          </a:xfrm>
        </p:grpSpPr>
        <p:sp>
          <p:nvSpPr>
            <p:cNvPr id="122" name="Rectangle 4"/>
            <p:cNvSpPr/>
            <p:nvPr/>
          </p:nvSpPr>
          <p:spPr>
            <a:xfrm>
              <a:off x="3352680" y="4267080"/>
              <a:ext cx="129564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4648320" y="57150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8"/>
            <p:cNvSpPr/>
            <p:nvPr/>
          </p:nvSpPr>
          <p:spPr>
            <a:xfrm>
              <a:off x="4800600" y="53341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rial 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8"/>
            <p:cNvGrpSpPr/>
            <p:nvPr/>
          </p:nvGrpSpPr>
          <p:grpSpPr>
            <a:xfrm>
              <a:off x="6934320" y="5409720"/>
              <a:ext cx="1371600" cy="305280"/>
              <a:chOff x="6934320" y="5409720"/>
              <a:chExt cx="1371600" cy="305280"/>
            </a:xfrm>
          </p:grpSpPr>
          <p:sp>
            <p:nvSpPr>
              <p:cNvPr id="126" name="Line 9"/>
              <p:cNvSpPr/>
              <p:nvPr/>
            </p:nvSpPr>
            <p:spPr>
              <a:xfrm>
                <a:off x="6934320" y="5715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 flipV="1">
                <a:off x="71629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8"/>
              <p:cNvSpPr/>
              <p:nvPr/>
            </p:nvSpPr>
            <p:spPr>
              <a:xfrm>
                <a:off x="7162920" y="5410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9"/>
              <p:cNvSpPr/>
              <p:nvPr/>
            </p:nvSpPr>
            <p:spPr>
              <a:xfrm>
                <a:off x="7391520" y="5715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0"/>
              <p:cNvSpPr/>
              <p:nvPr/>
            </p:nvSpPr>
            <p:spPr>
              <a:xfrm>
                <a:off x="7620120" y="5410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848720" y="5410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8077320" y="5715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3"/>
              <p:cNvSpPr/>
              <p:nvPr/>
            </p:nvSpPr>
            <p:spPr>
              <a:xfrm flipV="1">
                <a:off x="73915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4"/>
              <p:cNvSpPr/>
              <p:nvPr/>
            </p:nvSpPr>
            <p:spPr>
              <a:xfrm flipV="1">
                <a:off x="76201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5"/>
              <p:cNvSpPr/>
              <p:nvPr/>
            </p:nvSpPr>
            <p:spPr>
              <a:xfrm flipV="1">
                <a:off x="80773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26"/>
              <p:cNvSpPr/>
              <p:nvPr/>
            </p:nvSpPr>
            <p:spPr>
              <a:xfrm flipV="1">
                <a:off x="8305920" y="54097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Line 44"/>
            <p:cNvSpPr/>
            <p:nvPr/>
          </p:nvSpPr>
          <p:spPr>
            <a:xfrm>
              <a:off x="2057400" y="4572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>
              <a:off x="2057400" y="4724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7"/>
            <p:cNvSpPr/>
            <p:nvPr/>
          </p:nvSpPr>
          <p:spPr>
            <a:xfrm>
              <a:off x="2057400" y="4876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8"/>
            <p:cNvSpPr/>
            <p:nvPr/>
          </p:nvSpPr>
          <p:spPr>
            <a:xfrm>
              <a:off x="205740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9"/>
            <p:cNvSpPr/>
            <p:nvPr/>
          </p:nvSpPr>
          <p:spPr>
            <a:xfrm>
              <a:off x="205740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0"/>
            <p:cNvSpPr/>
            <p:nvPr/>
          </p:nvSpPr>
          <p:spPr>
            <a:xfrm>
              <a:off x="2057400" y="5334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1"/>
            <p:cNvSpPr/>
            <p:nvPr/>
          </p:nvSpPr>
          <p:spPr>
            <a:xfrm>
              <a:off x="2057400" y="5486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3"/>
            <p:cNvSpPr/>
            <p:nvPr/>
          </p:nvSpPr>
          <p:spPr>
            <a:xfrm flipV="1">
              <a:off x="3962520" y="6171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4"/>
            <p:cNvSpPr/>
            <p:nvPr/>
          </p:nvSpPr>
          <p:spPr>
            <a:xfrm flipH="1">
              <a:off x="2057400" y="6477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5"/>
            <p:cNvSpPr/>
            <p:nvPr/>
          </p:nvSpPr>
          <p:spPr>
            <a:xfrm>
              <a:off x="533520" y="4800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allel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6"/>
            <p:cNvSpPr/>
            <p:nvPr/>
          </p:nvSpPr>
          <p:spPr>
            <a:xfrm>
              <a:off x="457200" y="579132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UART Clock from 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aud rat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7"/>
            <p:cNvSpPr/>
            <p:nvPr/>
          </p:nvSpPr>
          <p:spPr>
            <a:xfrm flipH="1">
              <a:off x="2057040" y="4038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8"/>
            <p:cNvSpPr/>
            <p:nvPr/>
          </p:nvSpPr>
          <p:spPr>
            <a:xfrm>
              <a:off x="403848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9"/>
            <p:cNvSpPr/>
            <p:nvPr/>
          </p:nvSpPr>
          <p:spPr>
            <a:xfrm>
              <a:off x="1447920" y="365760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atus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EB4DA8E0-8927-4BE5-8C84-CAD36BB101F7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synchronous serial trans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38320" y="1757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ASCII.gif (6931 bytes)"/>
          <p:cNvPicPr/>
          <p:nvPr/>
        </p:nvPicPr>
        <p:blipFill>
          <a:blip r:embed="rId1"/>
          <a:stretch/>
        </p:blipFill>
        <p:spPr>
          <a:xfrm>
            <a:off x="457200" y="159084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37960" y="15001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37960" y="21430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52520" y="385776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ial transmission i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ittle endia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east significant bit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F98171AB-84A3-4C02-90D9-B23D93A13477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ART - The Rece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914400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chronises with transmitter using the falling edge of the start 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s the input data line at a clock rate that is normally a  multiple of baud rate, typically 16 times the baud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s each bit in middle of bit period (many modern UARTs use a majority decision of the several samples to determine the bit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the start and stop bits, optional calculates and checks the parity bit. Presents the received data value in parallel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905120" y="3809880"/>
            <a:ext cx="7010280" cy="2819520"/>
            <a:chOff x="1905120" y="3809880"/>
            <a:chExt cx="7010280" cy="2819520"/>
          </a:xfrm>
        </p:grpSpPr>
        <p:sp>
          <p:nvSpPr>
            <p:cNvPr id="162" name="Line 5"/>
            <p:cNvSpPr/>
            <p:nvPr/>
          </p:nvSpPr>
          <p:spPr>
            <a:xfrm flipH="1">
              <a:off x="5105160" y="4876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334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rial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7"/>
            <p:cNvGrpSpPr/>
            <p:nvPr/>
          </p:nvGrpSpPr>
          <p:grpSpPr>
            <a:xfrm>
              <a:off x="7315200" y="4572000"/>
              <a:ext cx="1600200" cy="304560"/>
              <a:chOff x="7315200" y="4572000"/>
              <a:chExt cx="1600200" cy="304560"/>
            </a:xfrm>
          </p:grpSpPr>
          <p:sp>
            <p:nvSpPr>
              <p:cNvPr id="165" name="Line 8"/>
              <p:cNvSpPr/>
              <p:nvPr/>
            </p:nvSpPr>
            <p:spPr>
              <a:xfrm flipV="1">
                <a:off x="75438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75438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77724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7772400" y="457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80010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82296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8458200" y="457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868680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 flipV="1">
                <a:off x="80010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"/>
              <p:cNvSpPr/>
              <p:nvPr/>
            </p:nvSpPr>
            <p:spPr>
              <a:xfrm flipV="1">
                <a:off x="84582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8"/>
              <p:cNvSpPr/>
              <p:nvPr/>
            </p:nvSpPr>
            <p:spPr>
              <a:xfrm flipV="1">
                <a:off x="86868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9"/>
              <p:cNvSpPr/>
              <p:nvPr/>
            </p:nvSpPr>
            <p:spPr>
              <a:xfrm flipV="1">
                <a:off x="8915400" y="45720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0"/>
              <p:cNvSpPr/>
              <p:nvPr/>
            </p:nvSpPr>
            <p:spPr>
              <a:xfrm>
                <a:off x="7315200" y="457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1"/>
            <p:cNvSpPr/>
            <p:nvPr/>
          </p:nvSpPr>
          <p:spPr>
            <a:xfrm>
              <a:off x="868680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3809880" y="4419360"/>
              <a:ext cx="129564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3"/>
            <p:cNvSpPr/>
            <p:nvPr/>
          </p:nvSpPr>
          <p:spPr>
            <a:xfrm flipV="1">
              <a:off x="4419720" y="6324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 flipH="1">
              <a:off x="2514600" y="66294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 flipH="1">
              <a:off x="2514240" y="41907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>
              <a:off x="449568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7"/>
            <p:cNvSpPr/>
            <p:nvPr/>
          </p:nvSpPr>
          <p:spPr>
            <a:xfrm>
              <a:off x="1905120" y="380988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atus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 flipH="1">
              <a:off x="2514600" y="46479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9"/>
            <p:cNvSpPr/>
            <p:nvPr/>
          </p:nvSpPr>
          <p:spPr>
            <a:xfrm flipH="1">
              <a:off x="2514600" y="48006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0"/>
            <p:cNvSpPr/>
            <p:nvPr/>
          </p:nvSpPr>
          <p:spPr>
            <a:xfrm flipH="1">
              <a:off x="2514600" y="4952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 flipH="1">
              <a:off x="2514600" y="51051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 flipH="1">
              <a:off x="2514600" y="5257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 flipH="1">
              <a:off x="2514600" y="5410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 flipH="1">
              <a:off x="2514600" y="5562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"/>
            <p:cNvSpPr/>
            <p:nvPr/>
          </p:nvSpPr>
          <p:spPr>
            <a:xfrm flipH="1">
              <a:off x="2514600" y="5715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6"/>
          <p:cNvGrpSpPr/>
          <p:nvPr/>
        </p:nvGrpSpPr>
        <p:grpSpPr>
          <a:xfrm>
            <a:off x="914400" y="4952880"/>
            <a:ext cx="2895480" cy="1694520"/>
            <a:chOff x="914400" y="4952880"/>
            <a:chExt cx="2895480" cy="1694520"/>
          </a:xfrm>
        </p:grpSpPr>
        <p:sp>
          <p:nvSpPr>
            <p:cNvPr id="194" name="Text Box 37"/>
            <p:cNvSpPr/>
            <p:nvPr/>
          </p:nvSpPr>
          <p:spPr>
            <a:xfrm>
              <a:off x="990720" y="49528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allel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8"/>
            <p:cNvSpPr/>
            <p:nvPr/>
          </p:nvSpPr>
          <p:spPr>
            <a:xfrm>
              <a:off x="914400" y="594360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UART Clock from 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aud rat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C54745CC-822A-4B96-9888-474BE53B9BFA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synchronous serial re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ASCII.gif (6931 bytes)"/>
          <p:cNvPicPr/>
          <p:nvPr/>
        </p:nvPicPr>
        <p:blipFill>
          <a:blip r:embed="rId1"/>
          <a:srcRect l="0" t="53537" r="0" b="0"/>
          <a:stretch/>
        </p:blipFill>
        <p:spPr>
          <a:xfrm>
            <a:off x="380880" y="1295280"/>
            <a:ext cx="8686800" cy="231480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685800" y="41911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743200" y="4952880"/>
            <a:ext cx="24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838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9907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1430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 flipV="1">
            <a:off x="12952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V="1">
            <a:off x="14479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V="1"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17524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29718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 flipV="1">
            <a:off x="17524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 flipV="1">
            <a:off x="19051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5"/>
          <p:cNvSpPr/>
          <p:nvPr/>
        </p:nvSpPr>
        <p:spPr>
          <a:xfrm flipV="1">
            <a:off x="2057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6"/>
          <p:cNvSpPr/>
          <p:nvPr/>
        </p:nvSpPr>
        <p:spPr>
          <a:xfrm flipV="1"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7"/>
          <p:cNvSpPr/>
          <p:nvPr/>
        </p:nvSpPr>
        <p:spPr>
          <a:xfrm flipV="1">
            <a:off x="2362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 flipV="1">
            <a:off x="25146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9"/>
          <p:cNvSpPr/>
          <p:nvPr/>
        </p:nvSpPr>
        <p:spPr>
          <a:xfrm flipV="1">
            <a:off x="26668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685800" y="380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274320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2"/>
          <p:cNvSpPr/>
          <p:nvPr/>
        </p:nvSpPr>
        <p:spPr>
          <a:xfrm flipV="1">
            <a:off x="3124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3"/>
          <p:cNvSpPr/>
          <p:nvPr/>
        </p:nvSpPr>
        <p:spPr>
          <a:xfrm flipV="1">
            <a:off x="32767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4"/>
          <p:cNvSpPr/>
          <p:nvPr/>
        </p:nvSpPr>
        <p:spPr>
          <a:xfrm flipV="1">
            <a:off x="34290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5"/>
          <p:cNvSpPr/>
          <p:nvPr/>
        </p:nvSpPr>
        <p:spPr>
          <a:xfrm flipV="1">
            <a:off x="35812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 flipV="1">
            <a:off x="41911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V="1">
            <a:off x="43434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V="1">
            <a:off x="44956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 flipV="1">
            <a:off x="46483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V="1">
            <a:off x="48006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 flipV="1">
            <a:off x="2819520" y="49528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7"/>
          <p:cNvSpPr/>
          <p:nvPr/>
        </p:nvSpPr>
        <p:spPr>
          <a:xfrm flipV="1">
            <a:off x="49528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8"/>
          <p:cNvSpPr/>
          <p:nvPr/>
        </p:nvSpPr>
        <p:spPr>
          <a:xfrm flipV="1">
            <a:off x="5105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762120" y="4724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ing for start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297180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1"/>
          <p:cNvSpPr/>
          <p:nvPr/>
        </p:nvSpPr>
        <p:spPr>
          <a:xfrm>
            <a:off x="518148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2"/>
          <p:cNvSpPr/>
          <p:nvPr/>
        </p:nvSpPr>
        <p:spPr>
          <a:xfrm>
            <a:off x="5181480" y="4191120"/>
            <a:ext cx="243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3"/>
          <p:cNvSpPr/>
          <p:nvPr/>
        </p:nvSpPr>
        <p:spPr>
          <a:xfrm flipV="1">
            <a:off x="5257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4"/>
          <p:cNvSpPr/>
          <p:nvPr/>
        </p:nvSpPr>
        <p:spPr>
          <a:xfrm flipV="1">
            <a:off x="54100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5"/>
          <p:cNvSpPr/>
          <p:nvPr/>
        </p:nvSpPr>
        <p:spPr>
          <a:xfrm flipV="1">
            <a:off x="55627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6"/>
          <p:cNvSpPr/>
          <p:nvPr/>
        </p:nvSpPr>
        <p:spPr>
          <a:xfrm flipV="1">
            <a:off x="57150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7"/>
          <p:cNvSpPr/>
          <p:nvPr/>
        </p:nvSpPr>
        <p:spPr>
          <a:xfrm flipV="1">
            <a:off x="58672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8"/>
          <p:cNvSpPr/>
          <p:nvPr/>
        </p:nvSpPr>
        <p:spPr>
          <a:xfrm flipV="1">
            <a:off x="60199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9"/>
          <p:cNvSpPr/>
          <p:nvPr/>
        </p:nvSpPr>
        <p:spPr>
          <a:xfrm flipV="1">
            <a:off x="617220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0"/>
          <p:cNvSpPr/>
          <p:nvPr/>
        </p:nvSpPr>
        <p:spPr>
          <a:xfrm flipV="1">
            <a:off x="6629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1"/>
          <p:cNvSpPr/>
          <p:nvPr/>
        </p:nvSpPr>
        <p:spPr>
          <a:xfrm flipV="1">
            <a:off x="6781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2"/>
          <p:cNvSpPr/>
          <p:nvPr/>
        </p:nvSpPr>
        <p:spPr>
          <a:xfrm flipV="1">
            <a:off x="6934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3"/>
          <p:cNvSpPr/>
          <p:nvPr/>
        </p:nvSpPr>
        <p:spPr>
          <a:xfrm flipV="1">
            <a:off x="70866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 flipV="1">
            <a:off x="72388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5"/>
          <p:cNvSpPr/>
          <p:nvPr/>
        </p:nvSpPr>
        <p:spPr>
          <a:xfrm flipV="1">
            <a:off x="6324480" y="41907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647712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7"/>
          <p:cNvSpPr/>
          <p:nvPr/>
        </p:nvSpPr>
        <p:spPr>
          <a:xfrm flipV="1">
            <a:off x="73915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8"/>
          <p:cNvSpPr/>
          <p:nvPr/>
        </p:nvSpPr>
        <p:spPr>
          <a:xfrm flipV="1">
            <a:off x="7543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9"/>
          <p:cNvSpPr/>
          <p:nvPr/>
        </p:nvSpPr>
        <p:spPr>
          <a:xfrm>
            <a:off x="5257800" y="525780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data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0"/>
          <p:cNvSpPr/>
          <p:nvPr/>
        </p:nvSpPr>
        <p:spPr>
          <a:xfrm>
            <a:off x="7848720" y="4419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1"/>
          <p:cNvSpPr/>
          <p:nvPr/>
        </p:nvSpPr>
        <p:spPr>
          <a:xfrm>
            <a:off x="7620120" y="41911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2"/>
          <p:cNvSpPr/>
          <p:nvPr/>
        </p:nvSpPr>
        <p:spPr>
          <a:xfrm>
            <a:off x="7620120" y="495288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3"/>
          <p:cNvSpPr/>
          <p:nvPr/>
        </p:nvSpPr>
        <p:spPr>
          <a:xfrm flipV="1">
            <a:off x="7696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4"/>
          <p:cNvSpPr/>
          <p:nvPr/>
        </p:nvSpPr>
        <p:spPr>
          <a:xfrm flipV="1">
            <a:off x="78487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5"/>
          <p:cNvSpPr/>
          <p:nvPr/>
        </p:nvSpPr>
        <p:spPr>
          <a:xfrm flipV="1">
            <a:off x="80010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6"/>
          <p:cNvSpPr/>
          <p:nvPr/>
        </p:nvSpPr>
        <p:spPr>
          <a:xfrm flipV="1">
            <a:off x="81532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7"/>
          <p:cNvSpPr/>
          <p:nvPr/>
        </p:nvSpPr>
        <p:spPr>
          <a:xfrm flipV="1">
            <a:off x="83059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8"/>
          <p:cNvSpPr/>
          <p:nvPr/>
        </p:nvSpPr>
        <p:spPr>
          <a:xfrm flipV="1">
            <a:off x="84582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9"/>
          <p:cNvSpPr/>
          <p:nvPr/>
        </p:nvSpPr>
        <p:spPr>
          <a:xfrm flipV="1">
            <a:off x="8610480" y="4952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0"/>
          <p:cNvSpPr/>
          <p:nvPr/>
        </p:nvSpPr>
        <p:spPr>
          <a:xfrm flipV="1">
            <a:off x="90676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5"/>
          <p:cNvSpPr/>
          <p:nvPr/>
        </p:nvSpPr>
        <p:spPr>
          <a:xfrm flipV="1">
            <a:off x="8763120" y="49528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6"/>
          <p:cNvSpPr/>
          <p:nvPr/>
        </p:nvSpPr>
        <p:spPr>
          <a:xfrm flipV="1">
            <a:off x="8915400" y="4952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9"/>
          <p:cNvSpPr/>
          <p:nvPr/>
        </p:nvSpPr>
        <p:spPr>
          <a:xfrm>
            <a:off x="8534520" y="5867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0"/>
          <p:cNvSpPr/>
          <p:nvPr/>
        </p:nvSpPr>
        <p:spPr>
          <a:xfrm>
            <a:off x="1676520" y="57150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1"/>
          <p:cNvSpPr/>
          <p:nvPr/>
        </p:nvSpPr>
        <p:spPr>
          <a:xfrm flipV="1">
            <a:off x="37339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2"/>
          <p:cNvSpPr/>
          <p:nvPr/>
        </p:nvSpPr>
        <p:spPr>
          <a:xfrm flipV="1">
            <a:off x="38862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3"/>
          <p:cNvSpPr/>
          <p:nvPr/>
        </p:nvSpPr>
        <p:spPr>
          <a:xfrm flipV="1">
            <a:off x="40384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4"/>
          <p:cNvSpPr/>
          <p:nvPr/>
        </p:nvSpPr>
        <p:spPr>
          <a:xfrm flipH="1">
            <a:off x="685440" y="2057400"/>
            <a:ext cx="10666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5"/>
          <p:cNvSpPr/>
          <p:nvPr/>
        </p:nvSpPr>
        <p:spPr>
          <a:xfrm>
            <a:off x="4038480" y="2666880"/>
            <a:ext cx="51055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CE1EFA5E-BE08-4BEB-BF92-EB90D7BA2771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used on simp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cally point to point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ous different formats and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ly 8-bit data format with one start and one stop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s: E.g. RS2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s connector type, pin assignments, voltage levels, max bit rate, cable length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. 3 pins – TxD, RxD,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ins for data flow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common RS232 baud rates - 300,1200,9600,19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sh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- RTS, CTS, etc - simple logic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- Xon/Xoff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LPC23xx U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5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ART1 is identical to UART0/2/3, but with the addition of a modem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byte Receive and Transmit FIF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 locations conform to ‘550 industry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iver FIFO trigger points at 1, 4, 8, and 14 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t-in baud rate gen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modem interface signals included (CTS,DTS, DTR, 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ither software or hardware flow control can be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20158007-1CC5-481F-B0FA-E058D100A5FF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85480"/>
            <a:ext cx="902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AR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9525240" cy="5410080"/>
          </a:xfrm>
          <a:prstGeom prst="rect">
            <a:avLst/>
          </a:prstGeom>
          <a:ln w="0">
            <a:noFill/>
          </a:ln>
        </p:spPr>
      </p:pic>
      <p:sp>
        <p:nvSpPr>
          <p:cNvPr id="279" name="Espace réservé du numéro de diapositive 3"/>
          <p:cNvSpPr/>
          <p:nvPr/>
        </p:nvSpPr>
        <p:spPr>
          <a:xfrm>
            <a:off x="8763120" y="6248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7-</a:t>
            </a:r>
            <a:fld id="{D8278546-E713-4F03-90D7-17D0BCA760DF}" type="slidenum">
              <a:rPr b="0" lang="en-GB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085760"/>
            <a:ext cx="8305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SARTs: USART1 &amp; USART6 on High speed APB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USART2,3,4,5 on Low speed AP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-programmable serial interface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n be 8 or 9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, odd or no-parity bit generation and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, 1, 1.5 or 2 stop bi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ble baud rate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er part (12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ctional part (4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ud rate for standard USART (SPI mode inclu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Tx/Rx baud = f</a:t>
            </a:r>
            <a:r>
              <a:rPr b="1" i="1" lang="fr-FR" sz="11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/8x(2-OVR8)xUSART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x/Rx baud: desired baud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VR8: oversampling by 8 (1 if enabled, 0 if disab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ck: APB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ARTDIV: value to be programmed to the BRR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20:52:56Z</dcterms:created>
  <dc:creator>Alan Goude</dc:creator>
  <dc:description/>
  <dc:language>en-US</dc:language>
  <cp:lastModifiedBy>wael</cp:lastModifiedBy>
  <dcterms:modified xsi:type="dcterms:W3CDTF">2013-10-11T12:02:45Z</dcterms:modified>
  <cp:revision>73</cp:revision>
  <dc:subject/>
  <dc:title>Microprocessor Engineering</dc:title>
</cp:coreProperties>
</file>